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401-CE04-42B3-A873-027250F8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AD6-D894-48BA-80C5-1F3C5850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615-5DB7-4A3D-95FD-3BCAC168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8C2-0944-4946-AD5E-38F1EA0C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2A84-AC0A-4BD3-9E6E-3073860D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83F6-65B1-449D-A114-1221601D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438B-DE95-4B70-B5DF-7E08910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D485-1180-42F9-BEB3-8A3AC96B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7C7E-330F-4638-A4BE-46E66721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4078-0436-41B9-A8B2-3DA79CB0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E182-F733-417C-AC5D-593022A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C56-9D5E-4C93-AA33-B8E0ED32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934C-05EC-429B-9D93-69D01873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EF50-8DEC-4E05-8DBE-7C0D57B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E770-0A3A-4C14-A770-59F22ED5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9B27-372B-463F-8A22-A3668832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38F3-BD11-4B1B-89DE-D1889119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809-4EF8-496C-B12E-200BAAE7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93F-F349-46F4-B72A-E27827D3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A2D-34B7-40C1-98CE-AF8B7D40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6C8-503D-42AE-8A6B-1BB25D8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474-0C49-4B5F-BB20-2698C050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35C-1EBF-4542-AA30-2B0AA420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69C-DA60-4CCA-AB80-584B60A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128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8. 11. 2005, Ústav informačních studií a knihovnictví FF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F63A-DD28-42A9-A534-2543C375E91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5640" y="260280"/>
            <a:ext cx="223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Informační polit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611280" y="6248520"/>
            <a:ext cx="54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8. 11. 2005, Ústav informačních studií a knihovnictví FF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B924-C3DB-4618-8FC4-675CA61D1CC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60280"/>
            <a:ext cx="223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Informační polit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kolkova@chello.cz" TargetMode="External"/><Relationship Id="rId3" Type="http://schemas.openxmlformats.org/officeDocument/2006/relationships/hyperlink" Target="mailto:skolkova@chello.cz" TargetMode="External"/><Relationship Id="rId4" Type="http://schemas.openxmlformats.org/officeDocument/2006/relationships/hyperlink" Target="mailto:skolkova@chello.cz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Alvin_Toffler" TargetMode="External"/><Relationship Id="rId3" Type="http://schemas.openxmlformats.org/officeDocument/2006/relationships/hyperlink" Target="http://www.spis.cz/spis/fileadmin/docs/Spis/Aktuality/VEREJNE/2004/SPIS1_fin3.pdf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web.cz/lin.skl/toffler.ppt" TargetMode="External"/><Relationship Id="rId3" Type="http://schemas.openxmlformats.org/officeDocument/2006/relationships/hyperlink" Target="http://www.sweb.cz/lin.skl/toffler.ppt" TargetMode="External"/><Relationship Id="rId4" Type="http://schemas.openxmlformats.org/officeDocument/2006/relationships/hyperlink" Target="http://www.sweb.cz/lin.skl/toffler.ppt" TargetMode="External"/><Relationship Id="rId5" Type="http://schemas.openxmlformats.org/officeDocument/2006/relationships/hyperlink" Target="http://www.sweb.cz/lin.skl/toffler.pdf" TargetMode="External"/><Relationship Id="rId6" Type="http://schemas.openxmlformats.org/officeDocument/2006/relationships/hyperlink" Target="http://www.sweb.cz/lin.skl/toffler.pdf" TargetMode="External"/><Relationship Id="rId7" Type="http://schemas.openxmlformats.org/officeDocument/2006/relationships/hyperlink" Target="http://www.sweb.cz/lin.skl/toffler.pdf" TargetMode="External"/><Relationship Id="rId8" Type="http://schemas.openxmlformats.org/officeDocument/2006/relationships/hyperlink" Target="http://www.sweb.cz/lin.skl/toffler.pdf" TargetMode="External"/><Relationship Id="rId9" Type="http://schemas.openxmlformats.org/officeDocument/2006/relationships/hyperlink" Target="http://www.sweb.cz/lin.skl/toffler.pdf" TargetMode="External"/><Relationship Id="rId10" Type="http://schemas.openxmlformats.org/officeDocument/2006/relationships/hyperlink" Target="http://www.sweb.cz/lin.skl/toffler.pdf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Alvin Toffler a třetí vln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31640" y="3212640"/>
            <a:ext cx="7010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Linda Skolko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ntakt: </a:t>
            </a: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kolkova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@</a:t>
            </a: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hello.c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2312-3E3D-41CC-A276-2E14FA94FC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vé poznat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chnologie jako mot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/akcel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átor změny, poznatk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losti jako pal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 doby vynálezu knihtisku mnohonásobný nárůst počtu publikovaných knih, vydaných časopisů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 každá kniha však přináší čistě nové poznatky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BE0-7C02-4A0E-B7C4-2025F288FE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vé poznat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knowledge is power (Francis Bac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knowledge is change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(Alvin Toffle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mentální modely = subjektivní reprezentace vnější skutečno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ikoliv statické knihovny obrázků, ale žijící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yní stále více ovlivněny zprávami z hromadných sdělovacích prostředků a od lidí kolem ná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snost reprezentace skutečnosti je do určité míry ovlivněna obecnou úrovní znalostí ve společ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ové poznatky buď rozšiřují poznatky dřívější, nebo způsobují jejich zastará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0DD-B3CC-4FB1-A03E-3CA1C99858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vé poznat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nožství nových poznatků je nesporně vzdáleno okamžitým zájmům obyčejných lid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růstající pomíjivost poznatků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klad knih: kožená vazba – plátěná vazba – papírová vazb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voj lidského poznání způsobuje, že každá kniha obsahuje stále menší část toho, co je znám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8A7-DF02-4EA8-905D-7F51DEC4FD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ychlost sdělo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ódovaná sdělení (zprávy) začínají převládat nad nekódovaný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kódovaná sdělení jsou často „prefabrikované“ (stručné, zhuštěné, málo redundantn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apř. články v novinách či dialogy ve filme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žívání symbolů (zkrácených vyjádřen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naha o zvyšování rychlosti čtení, aby člověk mohl přijímat více zpráv a zpracovávat více obrazů v kratším časovém úse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9A4-8E43-4AD4-9A6B-2EC4A8F95F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ychlost životního temp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ste životní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Mozart na útěku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: skladby Mozarta, Bacha či Haydna se dnes hrají rychleji než v době svého vznik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Pologramotný Shakespeare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: cca 450 tisíc použitelných slov v dnešní angličtině by jich pouze cca 250 tisíc bylo srozumitelné Shakespearov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edaktoři běžných časopisů přebírají vědecké termíny nejenom z odborných, ale i z vědeckých publikac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stálost umění (kinetické umění, happeningy jako papírové kapesníčky uměn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4A8-E97B-4B2D-980A-82558D994E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Tofflerovy vize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k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á republika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Česká republika má na vybranou, jestli se stane rozvinutou evropskou zemí, k čemuž dnes směřuje, nebo zda se pokusí tento vývoj zvrátit. Riziko úpadku spočívá v tom, že je u nás nedostatečně rozvinut hlavní zdroj bohatství moderní společnosti – vytváření hodnot tvůrčím a individualizovaným způsobem, ne díky rutinní fyzické či duševní práci; tedy práce s informacemi a jejich proměna na znalosti. Pro takové vytváření hodnot jsou hlavním nástrojem moderní digitální technologie, hlavním předpokladem pak vzdělaná pracovní síla.“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Manifest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znalostní společnosti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, s. 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C03-DACD-4FF1-92E7-F17FBB9105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užité zd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OFFLER, Alvin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Future shock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w York (NY, USA) : Bantam Books, c1970. 561 s. ISBN 0-553-27737-5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OFFLER, Alvin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The third wave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ondon (GB) : Pan Books, 1981. 543 s. ISBN 0-330-26337-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FFLER, Alvi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; TOFFLEROVÁ, Heidi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álka a antiválka : jak porozumět dnešnímu globálnímu chaosu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ha : Dokořán ; Argo, 2002. 302 s. ISBN 80-86569-16-0 (Dokořán); ISBN 80-7203-445-6 (Arg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FA8-6B3A-445F-BF96-7E83CFF64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užité zd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Wikipedia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onlin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cit.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2005-11-07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Heslo Alvin Toffler.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Dostupné na World Wide Web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en.wikipedia.org/wiki/Alvin_Toffl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&gt;.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Manifest znalostní společnosti : co musí Česká republika udělat, aby obstála v globálním kapitalismu 21. století jako vysoce rozvinutá země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[online]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aha : SPIS, 2004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cit.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2005-11-08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]. 28 s. Dostupný na World Wide Web: &lt;</a:t>
            </a:r>
            <a:r>
              <a:rPr b="0" lang="en-US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spis.cz/spis/fileadmin/docs/Spis/Aktuality/VEREJNE/2004/SPIS1_fin3.pdf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&gt;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C8E-0862-4CA1-993F-B7C6036333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Dostupnost této prezentace onli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formátu PP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</a:t>
            </a: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: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//www.sweb.cz/lin.skl/toffler.p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formátu PD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</a:t>
            </a: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: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//</a:t>
            </a: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www.sweb.cz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/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lin.skl/toffler.p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88B-578C-4D2A-BA16-FACE49E8F9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lvin Toffler (1928- 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uturolo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so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ální myslit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ositel čestných doktorátů (humanitní i přírodní vědy, práv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ůsobil jako hostující profesor na Cornellově univerzitě, redaktor časopis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ortune, 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lupráce s manželkou Hei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7DF-2B71-4354-A793-28CCB6CB77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lvin Toffler (1928- 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lavní oblasti zájmu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pad technologií na společno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lověka (např. zahlcení informacemi,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information overloa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ces změ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C54-FC41-4589-AA7D-1C33A9A3C2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lvin Toffler (1928- 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braná díl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Future shock, 1970 (Šok z budoucnost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0000"/>
                </a:solidFill>
                <a:latin typeface="Verdana"/>
              </a:rPr>
              <a:t>The third wave, 1980 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[</a:t>
            </a:r>
            <a:r>
              <a:rPr b="1" lang="cs-CZ" sz="2200" spc="-1" strike="noStrike">
                <a:solidFill>
                  <a:srgbClr val="cc0000"/>
                </a:solidFill>
                <a:latin typeface="Verdana"/>
              </a:rPr>
              <a:t>Třetí vlna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Powershift, 1990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[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Posun moci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Creating a new civilization, 1995 (Nová civilizace : třetí vlna a její důsledk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War and anti-war : making sense of tod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 global chaos, 1995 (Válka a antiválka : jak porozumět dnešnímu globálnímu chaosu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658-9326-463F-BC31-C95656086C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Civilizační vln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emědělsk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ahradila předchozí společnost sběračů a lovc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myslov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masová výroba, distribuce, spotřeba, vzdělávání, média, odpočinek, zábava, zbraně (hromadného ničení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tandardizace, centralizace, byrokrac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ukleární rodi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zdělávací systém továrního typ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korpor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B36-7A7A-460D-AAA6-7862CD1391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Civilizační vln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ostindustriál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informační vě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ozmanitost životních stylů, subkultu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dhokracie (flexibilní, „fluidní“ organizac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ychlá adaptace na změn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informace jako substitut ostatních zdroj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civilizace třetí vlny bude mít k dispozici více informací a lépe uspořádaných informací, než jsme si před čtvrtstoletím vůbec dovedli představ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asová customizace (přizpůsobení na míru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prosumer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producer, consumer) – sbližování výrobce a zákazní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8B6-6089-46B2-8EC7-E925E6BB91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Civilizační vln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kracování intervalu mezi jednotlivými vlnam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. vlna: 8 tisíc let př. n. l. – 165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750 (tj. řádově tisíce l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. vlna: cca 1750 – 1955 (tj. tři sta l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. vlna: 1955- (tj. řádově dekád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roce 1955 v USA byl poprvé počet „bílých límečků“ vyšší než počet „modrých límečků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79E-C0C3-4FD3-9855-344D5B5BED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Civilizační vln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lize mezi vlnami vyvolává napě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minující vlny změ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měny v oblast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chnosféry“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ciosféry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085-757C-4F1E-A478-8871D3EB13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vé bohatství</a:t>
            </a: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robní fak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hmotné hodno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emasifik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á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ov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ěřítk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rganiz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ystémová integr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frastruk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rychlení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B0F-3849-419C-A113-74F24F82C0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42:47Z</dcterms:created>
  <dc:creator>user</dc:creator>
  <dc:description/>
  <dc:language>en-US</dc:language>
  <cp:lastModifiedBy>user</cp:lastModifiedBy>
  <dcterms:modified xsi:type="dcterms:W3CDTF">2005-11-09T06:17:10Z</dcterms:modified>
  <cp:revision>23</cp:revision>
  <dc:subject/>
  <dc:title>Alvin Toffler a třetí vlna</dc:title>
</cp:coreProperties>
</file>